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604-449E-492B-B5C4-BCB39240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9D1-AB5A-4FBC-9113-496B5216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C9D-05E2-4346-85DC-353DB0BE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947-05BA-4F33-BBB8-882853BA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7C2-E31B-4E43-926C-6EB0B9E0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EC2-AF10-47E3-AF61-5710AEB2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3BC-724E-4C44-8E1F-670A7E5A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4E8-4526-492F-A72C-CFD85596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DDB-8E41-4113-9284-F1649457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E30-0B17-445F-BEF2-DE39E8E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5E9-0A66-4B56-BB93-6841EBC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CFC-C46B-4EF4-A4DB-D96CBBCB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9DB-7DCC-4C96-8EC6-6B2D6FA4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rfulleredgehill@yahoo.co.uk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revise colour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learn 12 countr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toca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say which countries you woud like to / wouldn’t like to vis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156360" y="836640"/>
            <a:ext cx="1257120" cy="86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15636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15636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156360" y="357336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15636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15636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189000"/>
            <a:ext cx="8351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airs, decide which European country has each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10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292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38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5516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90792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19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8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653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paí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10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92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38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l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516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90792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 Bre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9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8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371628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es Bajos / Ho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6530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 de Ga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89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p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627520" y="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2720" y="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6000" y="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69920" y="1144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13200" y="1144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114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62360" y="21207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9810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198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84320" y="10414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393372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06864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86064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29242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551664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65300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551664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65300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295280" cy="64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1524240" cy="5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42920" y="2924280"/>
            <a:ext cx="1524240" cy="64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042920" y="3645000"/>
            <a:ext cx="1524240" cy="57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42920" y="4292640"/>
            <a:ext cx="1524240" cy="64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042920" y="501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588000" y="1628640"/>
            <a:ext cx="1257480" cy="6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6516720" y="306864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588000" y="4292640"/>
            <a:ext cx="1295640" cy="72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6588000" y="5084640"/>
            <a:ext cx="1295640" cy="649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189000"/>
            <a:ext cx="8351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he English and the Spanish, do not draw the fl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177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421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292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8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l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530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17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 Bre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7640" y="24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306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573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es Bajos / Ho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50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 de Ga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51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765000"/>
            <a:ext cx="24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p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877000"/>
            <a:ext cx="7200720" cy="101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gus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 visi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 would like 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me gustaría visitar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 wouldn’t like 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404640"/>
            <a:ext cx="8640720" cy="64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rite a DETAILED description of your family and pets. Type it up and e-mail it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rfulleredgehill@yahoo.co.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Wedneday 2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he following populations out i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will be available on www.edgehillcollege.typepa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stria – 8million 200 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lgium – 5million 5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many- 52million 5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aly – 34million 7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ain – 40million 4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– 60 million 900 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paí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7:12:58Z</dcterms:created>
  <dc:creator>Owner1</dc:creator>
  <dc:description/>
  <dc:language>en-US</dc:language>
  <cp:lastModifiedBy>Owner1</cp:lastModifiedBy>
  <dcterms:modified xsi:type="dcterms:W3CDTF">2008-10-14T07:29:04Z</dcterms:modified>
  <cp:revision>2</cp:revision>
  <dc:subject/>
  <dc:title>Slide 1</dc:title>
</cp:coreProperties>
</file>